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E795B-A346-4F2D-B351-25C4ACCDC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4CED6-2AE3-4647-A654-1B873738D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3D3AD-7043-4DE3-BF66-3F4D46159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D4BF1-5276-4AD1-9EFD-AD49DD27D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7539D-CAD4-4A28-9A0F-8FE1DF06B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2DDB1-2DC7-4B97-900F-BB9AC5104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2396B-6975-4E6D-A323-24FC89F7C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5D22E-A5CE-48AD-A0E3-D70CD6027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A41E6-D011-4D45-A81C-8785E874B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937A6-71A8-4748-BEDD-93040C700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C807C-489F-43A2-BD23-1531249F1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994F5-3FFF-41F6-81B2-805450A5D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d4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B650B-5901-4DE3-AAEE-A635B11D91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d4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ditionals I, II, and I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 Review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d4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ditional II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present/future – impossible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0" y="1483920"/>
            <a:ext cx="45720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something is NOT possible now, or in the fut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(</a:t>
            </a:r>
            <a:r>
              <a:rPr b="1" lang="en-US" sz="2800" spc="-1" strike="noStrike">
                <a:solidFill>
                  <a:srgbClr val="996633"/>
                </a:solidFill>
                <a:latin typeface="Arial"/>
              </a:rPr>
              <a:t>pa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then </a:t>
            </a:r>
            <a:r>
              <a:rPr b="1" lang="en-US" sz="2800" spc="-1" strike="noStrike">
                <a:solidFill>
                  <a:srgbClr val="996633"/>
                </a:solidFill>
                <a:latin typeface="Arial"/>
              </a:rPr>
              <a:t>would V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he </a:t>
            </a:r>
            <a:r>
              <a:rPr b="1" lang="en-US" sz="2800" spc="-1" strike="noStrike">
                <a:solidFill>
                  <a:srgbClr val="996633"/>
                </a:solidFill>
                <a:latin typeface="Arial"/>
              </a:rPr>
              <a:t>spok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hinese, he </a:t>
            </a:r>
            <a:r>
              <a:rPr b="1" lang="en-US" sz="2800" spc="-1" strike="noStrike">
                <a:solidFill>
                  <a:srgbClr val="996633"/>
                </a:solidFill>
                <a:latin typeface="Arial"/>
              </a:rPr>
              <a:t>would wor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s a guide in China. (Fact: He doesn’t speak Chinese, so it’s impossible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457200" y="2536920"/>
            <a:ext cx="4038480" cy="265104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468360" y="5445000"/>
            <a:ext cx="2539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03120" y="5157720"/>
            <a:ext cx="4095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Great Wall of Ch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permission fr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.adcsoft.com/bjigsawpictures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d4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ecial Rules for Conditional 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 b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 is always “</a:t>
            </a:r>
            <a:r>
              <a:rPr b="1" lang="en-US" sz="3200" spc="-1" strike="noStrike">
                <a:solidFill>
                  <a:srgbClr val="996633"/>
                </a:solidFill>
                <a:latin typeface="Arial"/>
              </a:rPr>
              <a:t>we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: If he </a:t>
            </a:r>
            <a:r>
              <a:rPr b="1" lang="en-US" sz="3200" spc="-1" strike="noStrike">
                <a:solidFill>
                  <a:srgbClr val="996633"/>
                </a:solidFill>
                <a:latin typeface="Arial"/>
              </a:rPr>
              <a:t>we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here, he </a:t>
            </a:r>
            <a:r>
              <a:rPr b="1" lang="en-US" sz="3200" spc="-1" strike="noStrike">
                <a:solidFill>
                  <a:srgbClr val="996633"/>
                </a:solidFill>
                <a:latin typeface="Arial"/>
              </a:rPr>
              <a:t>would d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Fact: He’s not here, so it’s impossible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can drop the “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f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 by moving the “</a:t>
            </a:r>
            <a:r>
              <a:rPr b="1" lang="en-US" sz="3200" spc="-1" strike="noStrike">
                <a:solidFill>
                  <a:srgbClr val="996633"/>
                </a:solidFill>
                <a:latin typeface="Arial"/>
              </a:rPr>
              <a:t>we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 to the fro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: </a:t>
            </a:r>
            <a:r>
              <a:rPr b="1" lang="en-US" sz="3200" spc="-1" strike="noStrike">
                <a:solidFill>
                  <a:srgbClr val="996633"/>
                </a:solidFill>
                <a:latin typeface="Arial"/>
              </a:rPr>
              <a:t>We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he here, he </a:t>
            </a:r>
            <a:r>
              <a:rPr b="1" lang="en-US" sz="3200" spc="-1" strike="noStrike">
                <a:solidFill>
                  <a:srgbClr val="996633"/>
                </a:solidFill>
                <a:latin typeface="Arial"/>
              </a:rPr>
              <a:t>would d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d4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wish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+ (</a:t>
            </a: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pas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like a hope (which is possible), a </a:t>
            </a: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wis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usually will not come true. In general, you </a:t>
            </a: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wis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or a miracle, something that is im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wis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 </a:t>
            </a:r>
            <a:r>
              <a:rPr b="1" lang="en-US" sz="3200" spc="-1" strike="noStrike">
                <a:solidFill>
                  <a:srgbClr val="996633"/>
                </a:solidFill>
                <a:latin typeface="Arial"/>
              </a:rPr>
              <a:t>we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 Costa Rica. (I’m not there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</a:t>
            </a: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wish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he </a:t>
            </a:r>
            <a:r>
              <a:rPr b="1" lang="en-US" sz="3200" spc="-1" strike="noStrike">
                <a:solidFill>
                  <a:srgbClr val="996633"/>
                </a:solidFill>
                <a:latin typeface="Arial"/>
              </a:rPr>
              <a:t>spok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hinese. (He doesn’t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d4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would rat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0" y="1196640"/>
            <a:ext cx="91440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Would rath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 is like Conditional II, wishing for something that is probably im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: Subject 1 </a:t>
            </a: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would rath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ubject 2 (</a:t>
            </a:r>
            <a:r>
              <a:rPr b="1" lang="en-US" sz="3200" spc="-1" strike="noStrike">
                <a:solidFill>
                  <a:srgbClr val="996633"/>
                </a:solidFill>
                <a:latin typeface="Arial"/>
              </a:rPr>
              <a:t>pa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: I </a:t>
            </a: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would rath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he </a:t>
            </a:r>
            <a:r>
              <a:rPr b="1" lang="en-US" sz="3200" spc="-1" strike="noStrike">
                <a:solidFill>
                  <a:srgbClr val="996633"/>
                </a:solidFill>
                <a:latin typeface="Arial"/>
              </a:rPr>
              <a:t>cam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ight now. (Fact: He probably won’t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would rath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‘d ra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: I</a:t>
            </a: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’d rath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he </a:t>
            </a:r>
            <a:r>
              <a:rPr b="1" lang="en-US" sz="3200" spc="-1" strike="noStrike">
                <a:solidFill>
                  <a:srgbClr val="996633"/>
                </a:solidFill>
                <a:latin typeface="Arial"/>
              </a:rPr>
              <a:t>cam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ight n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d4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ditional III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past – impossible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ing believe” about the past, assuming something that wasn’t tr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1" lang="en-US" sz="3200" spc="-1" strike="noStrike">
                <a:solidFill>
                  <a:srgbClr val="cc00ff"/>
                </a:solidFill>
                <a:latin typeface="Arial"/>
              </a:rPr>
              <a:t>had V3r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then </a:t>
            </a:r>
            <a:r>
              <a:rPr b="1" lang="en-US" sz="3200" spc="-1" strike="noStrike">
                <a:solidFill>
                  <a:srgbClr val="cc00ff"/>
                </a:solidFill>
                <a:latin typeface="Arial"/>
              </a:rPr>
              <a:t>would have V3r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we </a:t>
            </a:r>
            <a:r>
              <a:rPr b="1" lang="en-US" sz="3200" spc="-1" strike="noStrike">
                <a:solidFill>
                  <a:srgbClr val="cc00ff"/>
                </a:solidFill>
                <a:latin typeface="Arial"/>
              </a:rPr>
              <a:t>had studi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we </a:t>
            </a:r>
            <a:r>
              <a:rPr b="1" lang="en-US" sz="3200" spc="-1" strike="noStrike">
                <a:solidFill>
                  <a:srgbClr val="cc00ff"/>
                </a:solidFill>
                <a:latin typeface="Arial"/>
              </a:rPr>
              <a:t>would have pass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 exam. (Fact: We didn’t study and we didn’t pass the exam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d4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ere does the “not” g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the girl </a:t>
            </a:r>
            <a:r>
              <a:rPr b="1" lang="en-US" sz="3200" spc="-1" strike="noStrike">
                <a:solidFill>
                  <a:srgbClr val="cc00ff"/>
                </a:solidFill>
                <a:latin typeface="Arial"/>
              </a:rPr>
              <a:t>ha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not</a:t>
            </a:r>
            <a:r>
              <a:rPr b="1" lang="en-US" sz="3200" spc="-1" strike="noStrike">
                <a:solidFill>
                  <a:srgbClr val="cc00ff"/>
                </a:solidFill>
                <a:latin typeface="Arial"/>
              </a:rPr>
              <a:t> look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oth ways when she crossed the street, a car </a:t>
            </a:r>
            <a:r>
              <a:rPr b="1" lang="en-US" sz="3200" spc="-1" strike="noStrike">
                <a:solidFill>
                  <a:srgbClr val="cc00ff"/>
                </a:solidFill>
                <a:latin typeface="Arial"/>
              </a:rPr>
              <a:t>would hav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hit her. (Fact: She did look both ways, so a car did not hit her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the boys </a:t>
            </a:r>
            <a:r>
              <a:rPr b="1" lang="en-US" sz="3200" spc="-1" strike="noStrike">
                <a:solidFill>
                  <a:srgbClr val="cc00ff"/>
                </a:solidFill>
                <a:latin typeface="Arial"/>
              </a:rPr>
              <a:t>had practic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ore, they </a:t>
            </a:r>
            <a:r>
              <a:rPr b="1" lang="en-US" sz="3200" spc="-1" strike="noStrike">
                <a:solidFill>
                  <a:srgbClr val="cc00ff"/>
                </a:solidFill>
                <a:latin typeface="Arial"/>
              </a:rPr>
              <a:t>would 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not</a:t>
            </a:r>
            <a:r>
              <a:rPr b="1" lang="en-US" sz="3200" spc="-1" strike="noStrike">
                <a:solidFill>
                  <a:srgbClr val="cc00ff"/>
                </a:solidFill>
                <a:latin typeface="Arial"/>
              </a:rPr>
              <a:t> have lo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 game. (Fact: They did not practice enough, so they lost the game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d4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ecial Rules for Conditional I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can drop the “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f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 by moving the “</a:t>
            </a:r>
            <a:r>
              <a:rPr b="1" lang="en-US" sz="3200" spc="-1" strike="noStrike">
                <a:solidFill>
                  <a:srgbClr val="cc00ff"/>
                </a:solidFill>
                <a:latin typeface="Arial"/>
              </a:rPr>
              <a:t>ha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 to the fro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ff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f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he </a:t>
            </a:r>
            <a:r>
              <a:rPr b="1" lang="en-US" sz="3200" spc="-1" strike="noStrike">
                <a:solidFill>
                  <a:srgbClr val="cc00ff"/>
                </a:solidFill>
                <a:latin typeface="Arial"/>
              </a:rPr>
              <a:t>ha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cc00ff"/>
                </a:solidFill>
                <a:latin typeface="Arial"/>
              </a:rPr>
              <a:t>be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re, we </a:t>
            </a:r>
            <a:r>
              <a:rPr b="1" lang="en-US" sz="3200" spc="-1" strike="noStrike">
                <a:solidFill>
                  <a:srgbClr val="cc00ff"/>
                </a:solidFill>
                <a:latin typeface="Arial"/>
              </a:rPr>
              <a:t>would have don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cc00ff"/>
                </a:solidFill>
                <a:latin typeface="Arial"/>
              </a:rPr>
              <a:t>Ha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he </a:t>
            </a:r>
            <a:r>
              <a:rPr b="1" lang="en-US" sz="3200" spc="-1" strike="noStrike">
                <a:solidFill>
                  <a:srgbClr val="cc00ff"/>
                </a:solidFill>
                <a:latin typeface="Arial"/>
              </a:rPr>
              <a:t>be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re, we </a:t>
            </a:r>
            <a:r>
              <a:rPr b="1" lang="en-US" sz="3200" spc="-1" strike="noStrike">
                <a:solidFill>
                  <a:srgbClr val="cc00ff"/>
                </a:solidFill>
                <a:latin typeface="Arial"/>
              </a:rPr>
              <a:t>would have don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 careful !!  Although you are starting with a “little verb”, this is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 question 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d4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ood Luck !!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ust remember to ask yourself: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643280" y="1989000"/>
            <a:ext cx="410544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the situation possible or impossib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the situation in the past or in the present/futur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324000" y="242100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d4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ember 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our words tha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V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well,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almos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ver) appear in the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F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lause 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ill, won’t, would, wouldn’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d4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1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The End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551628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d4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IF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4400" spc="-1" strike="noStrike">
                <a:solidFill>
                  <a:srgbClr val="3333ff"/>
                </a:solidFill>
                <a:latin typeface="Arial"/>
              </a:rPr>
              <a:t>THE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Clau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ditional sentences have at least two clauses: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F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lauses and 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TH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lau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 go into town tomorrow, 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the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 will see a movi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f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 spoke Chinese, 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the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e would work as a guide in Chin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ey had been faster, 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the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ey would have won the ra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d4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IF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Clauses (the conditio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F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lauses present the condi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 go into town tomorrow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f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 spoke Chinese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ey had been faster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d4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ff"/>
                </a:solidFill>
                <a:latin typeface="Arial"/>
              </a:rPr>
              <a:t>THE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Clauses (the resul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TH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lauses present the resul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… 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th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 will see a movi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th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he would work as a guide in Chin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… 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th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y would have won the r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d4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IF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4400" spc="-1" strike="noStrike">
                <a:solidFill>
                  <a:srgbClr val="3333ff"/>
                </a:solidFill>
                <a:latin typeface="Arial"/>
              </a:rPr>
              <a:t>THE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Clau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word “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th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 is optional, but the clause is still the result of the condition. So it is a “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TH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 clause, without the word “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th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are special rules for leaving out the word “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f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. We will learn them la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d4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ember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our words tha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V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well,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almos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ver) appear in the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F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lause 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ill, won’t, would, wouldn’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we will see it, we will be ang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1763640" y="5013360"/>
            <a:ext cx="720720" cy="720720"/>
          </a:xfrm>
          <a:prstGeom prst="line">
            <a:avLst/>
          </a:prstGeom>
          <a:ln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835280" y="5013360"/>
            <a:ext cx="649080" cy="720720"/>
          </a:xfrm>
          <a:prstGeom prst="line">
            <a:avLst/>
          </a:prstGeom>
          <a:ln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d4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ditional I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present/future – possible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495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something is possible now or in the fu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(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pres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then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will V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she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tudi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she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will pas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e geography test. (It is possible !!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5720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d4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Unl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Unles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f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n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f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e 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do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n’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finis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oon, we 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will mis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 tra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Unles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e 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finis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oon, we 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will mis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 tra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d4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Arial"/>
              </a:rPr>
              <a:t>Tempor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1125360"/>
            <a:ext cx="954072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Temporal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re time expression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Examples: before, until, after, by the time, etc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they refer to the future, they are like Conditional I: </a:t>
            </a: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Tempor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present), will V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Until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arriv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I 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will rea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 boo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will mak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 cake </a:t>
            </a: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befo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y 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g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6:37:15Z</dcterms:created>
  <dc:creator>Baker</dc:creator>
  <dc:description/>
  <dc:language>en-US</dc:language>
  <cp:lastModifiedBy>Baker</cp:lastModifiedBy>
  <dcterms:modified xsi:type="dcterms:W3CDTF">2002-10-27T04:33:51Z</dcterms:modified>
  <cp:revision>38</cp:revision>
  <dc:subject/>
  <dc:title>Conditionals I, II, and III</dc:title>
</cp:coreProperties>
</file>